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40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png" ContentType="image/png"/>
  <Override PartName="/ppt/media/image35.png" ContentType="image/png"/>
  <Override PartName="/ppt/media/image3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402-4893-45E5-8288-26113AE9B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EEF-9068-4C8A-AEEC-CB7391E426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694B-3D1F-469B-85A8-512F540A95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483-8041-49DE-8870-CFC6ABE2EA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1AD-0F07-4DE5-ADA3-1A151686DE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3A97-1E8A-421B-BAC2-488CF3D611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D938-915B-44AA-90FD-3CA8F4BA3B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483-ABF7-42CD-8994-836890A1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C1C-41E7-4655-9B8E-8782ECE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15A-66C3-4ED7-A37E-84BFC8AE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C88-FA96-405B-A638-5BE53BC2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150E-A1C6-44DF-9EAD-36C5BAE6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B21A-1C2A-482B-BA03-12894CB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A8EA-F5DC-4C3D-BF4A-6B38B3E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8B3-967D-4E7F-A1BB-120D742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9582-F6B3-4976-B6BC-F68A49F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4E01-736A-4678-9B4C-13A4FD30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D082-C12B-445B-99C5-D0EBF28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962-E070-4D01-BEED-6340D62D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4488-B594-42BA-91C6-EAF97DF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1243-AD8D-420A-A9E2-28B5ADE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9483-E90B-4C36-A299-156997E2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043-ABA7-4835-8A67-FBBE4C93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EFF-46C3-4522-9DED-339454C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073-9ED0-412B-89AF-C787189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843-A69D-46CC-BD48-ED078FC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AD5-1BF4-44D8-B591-8183000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ACE-6CE4-438C-9CF9-C80C557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4E0-2A40-4877-8BB6-0F150A7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1CB-987D-44BD-BCF5-1CEE1D1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3A7-28FA-4799-8184-6A97C6B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060-7E1D-4592-8C22-C9E35A39E50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ACE-9288-4680-BD9B-7F6BDEEBA5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353880" y="378000"/>
            <a:ext cx="8320320" cy="3376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160" y="4343400"/>
            <a:ext cx="7854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New Castle Jr./Sr. High School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anuary 11, 2012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7:00 p.m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ilure to sign FAFSA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orrect Social Security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vorced/remarried parental in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ome earned by parents/steppar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taxed Inc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.S. Income Taxes Pa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sehold Si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Household members in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l Estate and Investment Net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0663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PS notifies student of FAFSA processing results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ail notification containing a direct link to student’s online SAR if student’s email was provided on paper or electronic applica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with PIN may view SAR online 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fafsa.ed.gov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ew results for accuracy; update any “estimated” info with “actual” once availa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6632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s aid eligibility using federal formu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ckages aid depending on availability of fun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s award notification including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ward amount for each program for which the student is eligi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bursement methods and time fra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rms and conditions of each aw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2"/>
          <a:stretch/>
        </p:blipFill>
        <p:spPr>
          <a:xfrm>
            <a:off x="378000" y="60480"/>
            <a:ext cx="8467560" cy="102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052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uition and fe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oom and boar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Books, supplies, transportation, and miscellaneous personal expenses, including documented costs for a personal comput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Loan fe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tudy abroad cos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Dependent care expens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Disability-related expens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ooperative education program cos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mount the family is expected to contribute toward education costs for the year based on the information reported on the FAFSA.  Takes into considera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 year (2011) income (student and pa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ets (student and pa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usehold Siz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children in household in colle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axed inco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Rectangle 4" descr=""/>
          <p:cNvPicPr/>
          <p:nvPr/>
        </p:nvPicPr>
        <p:blipFill>
          <a:blip r:embed="rId2"/>
          <a:stretch/>
        </p:blipFill>
        <p:spPr>
          <a:xfrm>
            <a:off x="378000" y="60480"/>
            <a:ext cx="8467560" cy="102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782316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institutions are required to have a net price calculator on their website by October 2011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 Price” is what the student actually pays to attend, after subtracting discounts and financial ai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Rectangle 4" descr=""/>
          <p:cNvPicPr/>
          <p:nvPr/>
        </p:nvPicPr>
        <p:blipFill>
          <a:blip r:embed="rId2"/>
          <a:stretch/>
        </p:blipFill>
        <p:spPr>
          <a:xfrm>
            <a:off x="530280" y="60480"/>
            <a:ext cx="8235720" cy="102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16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warded to eligible undergraduates pursuing first baccalaureate degree and certain students enrolled in post-baccalaureate teacher certification or licensing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ual award amount based on EFC and enrollment stat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ximum award for 2010-11 = $5,55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2"/>
          <a:stretch/>
        </p:blipFill>
        <p:spPr>
          <a:xfrm>
            <a:off x="530280" y="1260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3316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graduates pursuing first baccalaureate or professional degr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warded first to students with “exceptional financial need” (i.e., students with lowest EFCs at that schoo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to Federal Pell Grant recipi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10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nual award amou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100 minim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4,000 maxim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Rectangle 4" descr=""/>
          <p:cNvPicPr/>
          <p:nvPr/>
        </p:nvPicPr>
        <p:blipFill>
          <a:blip r:embed="rId2"/>
          <a:stretch/>
        </p:blipFill>
        <p:spPr>
          <a:xfrm>
            <a:off x="530280" y="-171360"/>
            <a:ext cx="8156520" cy="143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 Undergraduate, graduate, and professional stu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ployment may be on or off camp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employer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chool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ederal, state, or local public agenci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ertain private nonprofit and for-profit organizati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s must use portion of FWS funds for community service employment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at is financial aid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re does it come from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o is eligibl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w do I apply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at aid is availabl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2"/>
          <a:stretch/>
        </p:blipFill>
        <p:spPr>
          <a:xfrm>
            <a:off x="378000" y="79200"/>
            <a:ext cx="8467560" cy="878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dergraduate, graduate, and professional stud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iority to students who show “exceptional need,” as defined by schoo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an amount vari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ximum annual loan amount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$4,000—undergraduate stud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$6,000—graduate and professional students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Rectangle 4" descr=""/>
          <p:cNvPicPr/>
          <p:nvPr/>
        </p:nvPicPr>
        <p:blipFill>
          <a:blip r:embed="rId2"/>
          <a:stretch/>
        </p:blipFill>
        <p:spPr>
          <a:xfrm>
            <a:off x="530280" y="60480"/>
            <a:ext cx="823572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15600" y="1447920"/>
            <a:ext cx="525132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87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est rate: 5%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9-month grace perio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payment period may be up to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10 yea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erment and cancellation provisions availabl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0" name="Picture 6" descr="PH01754J"/>
          <p:cNvPicPr/>
          <p:nvPr/>
        </p:nvPicPr>
        <p:blipFill>
          <a:blip r:embed="rId3"/>
          <a:stretch/>
        </p:blipFill>
        <p:spPr>
          <a:xfrm>
            <a:off x="6400800" y="1676520"/>
            <a:ext cx="2219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bsidized Loans: Must demonstrate “need”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overnment pays interest while in schoo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subsidized Loans: Not based on “need”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est accrues quarterly/option to pay   interest while in schoo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ncipal and interest of loan begin repayment 6 months after student graduates or cease enrollment at ½ time statu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shman          $3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phomore       $4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nior/Senior   $5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itional $2000.00 unsubsidized loan for each grad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ent loan program for parents of dependent undergraduate stu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nual loan limit: COA minus other a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est Rate: 7.9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an fe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ayment begins once loan is fully disbur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bearance” option available to postpone repayment while student is in schoo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tional unsubsidized loan eligibility for dependent students whose parents are unable to borrow PLU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38120" y="103320"/>
            <a:ext cx="8504280" cy="1439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 State Grant Dead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y 1,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rst time and Renewal applicants that plan to enroll in a degree program or a college transferable program at a community college or other college/univers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gust 1,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rst time applicants that plan to enroll in a community college; business, trade, or technical school; or a 2 year program that is not transferable to another institutio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 State Gra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ull-time, in PA………up to $434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t time, in PA………up to $217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state…… up to $600 in CT, DE, MA, ME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H, RI, VT, WV, and D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other states…..up to $400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NJ, NY, and MD = 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mount determined by cost of schoo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te Work-Study-job related to majo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ducational Assistance Grant (EAP) – National Guar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hafee Education and Training Gran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lind and Deaf Beneficiary Gran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stsecondary Educational Gratuity Progra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rtnerships for Access to Higher Education (PATH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tails, see the PA Guide to Student Aid, or visit www.pheaa.or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quire FAFSA comple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require additional app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bursements/payments vary throughout  the seme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 be reported on the FAFSA; the FAFSA creates a “baseline” EF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mily must send explanation of circumstances to financial aid office at each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lege will review special circumsta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require additional document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cisions are final and cannot be appealed to U.S. Department of Edu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ra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cholarship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a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mployment Opportunit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Veterans Benefi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Party Agenc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8" descr="C:\Documents and Settings\sms\Local Settings\Temporary Internet Files\Content.IE5\BFN5BNWF\MCj00787110000[1].wmf"/>
          <p:cNvPicPr/>
          <p:nvPr/>
        </p:nvPicPr>
        <p:blipFill>
          <a:blip r:embed="rId3"/>
          <a:stretch/>
        </p:blipFill>
        <p:spPr>
          <a:xfrm>
            <a:off x="6705720" y="144792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btain and review admissions and financial aid websites and materials for each school to which you are apply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et all application dead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FAFSA and other application materials, such as College Scholarship Service’s PROFILE application, if required by school or state agenc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mit all requested follow-up docu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estigate other sources of fu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fafsa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pin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studentloans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fastweb.co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youcandealwithit.co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educationplanner.or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3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85000" cy="166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jld1\Local Settings\Temporary Internet Files\Content.IE5\F5Z1GIIE\MCj03356810000[1].wmf"/>
          <p:cNvPicPr/>
          <p:nvPr/>
        </p:nvPicPr>
        <p:blipFill>
          <a:blip r:embed="rId3"/>
          <a:stretch/>
        </p:blipFill>
        <p:spPr>
          <a:xfrm>
            <a:off x="609480" y="3048120"/>
            <a:ext cx="4488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at is I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olarshi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n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ployment Opport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at Are the Sources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de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Institu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vate Organizations and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school diploma or equival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enrolled or accepted for enrollment in eligible program of stud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pursuing degree, certificate, or other recognized credentia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U.S. citizen or eligible noncitiz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registered with Selective Service (if male and required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not have eligibility if convicted of a drug-related offen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not have eligibility if convicted of a sexual offen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242560" cy="127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ubmit FAFSA prior to school’s deadlin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ost aid awarded on “first come, first served” basi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o ensure maximum consideration for federal, state, and institutional aid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heck information from each school to determine: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equired application materials for each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AFSA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way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.  However, scholarship forms? institutional applications? CSS Profile Form?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Application deadlin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C:\Documents and Settings\jld1\Local Settings\Temporary Internet Files\Content.IE5\VAYRRTPW\MCj02955550000[1].wmf"/>
          <p:cNvPicPr/>
          <p:nvPr/>
        </p:nvPicPr>
        <p:blipFill>
          <a:blip r:embed="rId3"/>
          <a:stretch/>
        </p:blipFill>
        <p:spPr>
          <a:xfrm>
            <a:off x="7315200" y="4998960"/>
            <a:ext cx="18288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19080" y="646200"/>
            <a:ext cx="3400560" cy="142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rcRect l="0" t="15155" r="24076" b="17266"/>
          <a:stretch/>
        </p:blipFill>
        <p:spPr>
          <a:xfrm>
            <a:off x="3352680" y="0"/>
            <a:ext cx="556272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1676520"/>
            <a:ext cx="327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bsit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ww.pin.ed.gov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t required, but speeds process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8600" y="5484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ay be used by students and parents throughout aid process, including subsequent school yea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2"/>
          <a:stretch/>
        </p:blipFill>
        <p:spPr>
          <a:xfrm>
            <a:off x="682560" y="-19080"/>
            <a:ext cx="7785000" cy="115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rcRect l="42333" t="32813" r="13751" b="35157"/>
          <a:stretch/>
        </p:blipFill>
        <p:spPr>
          <a:xfrm>
            <a:off x="838080" y="988920"/>
            <a:ext cx="7315200" cy="426888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685800" y="5257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Submit FAFSA at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Lucida Sans"/>
              </a:rPr>
              <a:t>www.fafsa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Apply annuall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Full time and part time students can qualif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void being charged a fee to file th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plication for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dera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uden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mpletion and processing of the FAFSA are FRE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filing the FAFSA electronically, be sure to go directly to www.fafsa.ed.gov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act the financial aid office for help completing the FAFSA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C:\Documents and Settings\jld1\Local Settings\Temporary Internet Files\Content.IE5\Y7W3MICJ\MCj04347500000[1].png"/>
          <p:cNvPicPr/>
          <p:nvPr/>
        </p:nvPicPr>
        <p:blipFill>
          <a:blip r:embed="rId3"/>
          <a:stretch/>
        </p:blipFill>
        <p:spPr>
          <a:xfrm>
            <a:off x="7467480" y="53341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8:55:31Z</dcterms:created>
  <dc:creator>Property</dc:creator>
  <dc:description/>
  <dc:language>en-US</dc:language>
  <cp:lastModifiedBy>rover</cp:lastModifiedBy>
  <dcterms:modified xsi:type="dcterms:W3CDTF">2012-01-12T01:39:40Z</dcterms:modified>
  <cp:revision>42</cp:revision>
  <dc:subject/>
  <dc:title>Slide 1</dc:title>
</cp:coreProperties>
</file>